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8F68-29B8-4C1C-A250-7ED5EB1F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595-C3F4-4CDC-B12B-35AB6346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A88D-7202-4E47-9110-4F7C2FDA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42D2-C61C-432C-AB58-4DD15C40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36CF-004D-45BC-8D86-BA0B1F0A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AF4D-41CF-41F2-92EC-C7E99312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29A6-8A81-4FEC-85C1-32811C98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CA82-8D47-4C07-A4C3-23C84BF1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02FE-0E08-44E7-AC94-1E38B2B9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CC93-0E75-4397-8946-1CF113BF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0021-F2FF-43F5-99C8-8FA6B55E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A249-1C74-4A3F-A0B8-DFD58DF5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34B6-4D57-4065-B325-E78CF202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8B24-BE28-458A-9BF6-241E2BE6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1F07-BD75-4746-B518-C1DB6020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30BB-6309-4B4F-AF37-330FA88C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F7BD-C9A4-4407-9D13-A36F99EE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8DAAC-C27E-468B-B7D1-1DB0C599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4774E-943C-476D-B7A8-7062E6DF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7B2D3-E2B0-4AC5-B1D3-BF06DE20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B19CA-18B6-4E1F-8923-4F4ABA52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6D83D-8C7D-466D-B9C6-462D3E89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200-8BD6-4F08-8C94-CEC78B74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A7799-1304-496B-B2CC-008A1AD8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B526E-844A-433B-95F1-4D019F1A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80B4F-B4F2-434D-B2A4-05870503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D9911-153D-4E8C-8160-3E8D1082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E9E95-A3D9-445A-BE60-EF0017C6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B8217-4D12-4EC3-B1B9-7F687388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E5497-B34F-40F9-A4B0-C5796DC6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450E1-AFF5-41C0-BCCA-D805B9AB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F2AA4-3D13-4DA0-9B85-AC00AA46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69EE3-5F9C-4BF8-8FA1-3A24EA80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D6C-CA15-4B66-9133-DFDBDF05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F3188-5E56-4B16-AA9E-BC881C8B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8F24C-1211-4FAC-81E2-B1566D30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EC148-B72F-438E-8998-311F46C6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E988C-E452-4059-8365-AA0B3F8B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5C57C-BF5D-4909-B89B-CBA4C058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B83E1-7AB8-4207-AF76-DFC4842F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BBB6B-676A-478B-A4C0-018BCC1E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19D60-1BFB-4A6D-A89C-2D07D74F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8309F-EEC9-4CB3-9F66-2561743E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E68E4-FDD5-4E91-A3F8-5DD346C1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C31E-64D9-4519-ABD1-BD65F349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A7FE7-9C88-4C43-97DA-DAF629BF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3C8CD-B868-4711-B2FD-35ABD7DC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559DC-29AA-41EA-924D-370D4B0F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8E650-935F-4679-A77E-FDA9523B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491E7-C34B-47FC-BE1F-6DEE58A4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74E94-AD79-48CE-AEB8-ABB6B974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73158-E88A-4CE6-87F6-FD94FADF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56B44-8571-4764-8C7C-47E73958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02F53-649A-44D4-88F4-E46814AC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2FB1D-FDF8-49C6-845A-13B474A2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FF3-0D90-40C0-94B9-006ADE5D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061C3-61C0-4FCB-BC51-056E1D29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9E3ED-1373-4D5E-962E-7A97D0A9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160A4-A1F9-487C-AC35-8ACE1EC9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0F50F-0BBB-45AC-B404-EA06AF8D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9CB1D-A9AF-4671-A7EB-05289E60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CCD73-314E-489C-BCDA-14955F10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8EBEC-4E96-433E-98EB-89A3330C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AB09C-1D14-4F5E-897B-6DE8C2FC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7F772-F32F-448A-B007-3F0031D5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7731D-0626-4C23-951E-C97B078A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A22-AD67-4EC4-9FBF-1B73B069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DD6CF-2A8B-4847-BA78-6735E1BF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6526F-C8ED-441B-A156-02EFE132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A708A-0E8F-4D36-A8D8-D9654BAE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2B8-2779-4AA1-9522-756AA663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7EBD-83F8-4183-9135-ABB64178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0194-1499-4F27-9B63-CF8C58C3122A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595D-B297-4A6B-ABCC-065D3BE693EC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C1EE-83A3-49E6-8F7D-3AED4DAF2E2F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A53E-6F39-414B-A230-45D8FA32107D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0CEC-5D58-4E62-8967-0519366F6851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30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8D43-7D94-48CA-81D5-C8E614086D60}" type="slidenum">
              <a:rPr b="0" lang="ru-RU" sz="1200" spc="-1" strike="noStrike">
                <a:solidFill>
                  <a:srgbClr val="95bcc2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6000" y="1714320"/>
            <a:ext cx="8028000" cy="29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ма: «Дифференцированный подход  в обучении и воспитании детей с особыми образовательными потребностями                         в МКОУ ДО ДДТ ст. Старолеушковской»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071360" y="4286160"/>
            <a:ext cx="8072280" cy="2286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4617b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А.Тарельнико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директора по УВР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ДО ДДТ ст. Старолеушковско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г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1042920" y="115920"/>
            <a:ext cx="81010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образовательное учреждение дополнительного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  «Дом детского творчества» станицы Старолеушковско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образования Павловский район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4617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2640" y="428760"/>
            <a:ext cx="7791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сихолого-педагогическая диагностика,                          обеспечивает:</a:t>
            </a:r>
            <a:br>
              <a:rPr sz="4000"/>
            </a:br>
            <a:endParaRPr b="0" lang="en-US" sz="28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928800" y="1428480"/>
            <a:ext cx="82152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воевременное выявление детей с ограниченными возможностям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выявление особых образовательных потребностей детей  с ОВЗ, обусловленных недостатками в их психическом развит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пределить оптимальный педагогический маршру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планировать коррекционные мероприятия, разработать программы коррекционной работ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ценить динамику развития и эффективность коррекционной работ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онсультировать родителей ребенк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571680"/>
            <a:ext cx="74995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ниторинг детского развития включает в себя:</a:t>
            </a:r>
            <a:br>
              <a:rPr sz="3200"/>
            </a:br>
            <a:endParaRPr b="0" lang="en-US" sz="32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434960" y="1714320"/>
            <a:ext cx="74995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ценка психического развит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стояние его здоровь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витие общих способностей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х, коммуникативных                                                                                и регуляторны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071360" y="785880"/>
            <a:ext cx="7499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ь коррекционно-развивающе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боты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оздание условий дл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стороннего развития ребенка 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ыми образовательными потребностями для обогащения его социального опыта и гармоничного включения в коллектив сверстник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7000920" y="214200"/>
            <a:ext cx="2143080" cy="18576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999720" y="356760"/>
            <a:ext cx="79297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сновные принципы                             коррекционно-развивающей                                  рабо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людение интересов ребенка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стемность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рерывность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спечение положительного эмоционального самочувствия всех участников образовательного процесса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дивидуальный подход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явление педагогического такт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4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"/>
          <p:cNvSpPr/>
          <p:nvPr/>
        </p:nvSpPr>
        <p:spPr>
          <a:xfrm>
            <a:off x="971640" y="359280"/>
            <a:ext cx="79930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ффективными приемами коррекционного воздействия на эмоциональную и познавательную сферу детей с  ОВЗ в развит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ровые ситу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дактические игры, которые связаны с поиском видовых и родовых признаков предме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ровые тренинги, способствующие развитию умения общаться с други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имнастика и релакса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ворческая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60284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ятельность образовательного учреждения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лжна быть направлена: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1f06d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создание условий для получения доступного образова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м ребенком с проблемами в развитии, независимо от уровня способностей, образовательных потребностей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1f06d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реализацию потенциальных возможност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с ОВЗ в доступных формах обучения, видах деятельности.</a:t>
            </a:r>
            <a:endParaRPr b="0" lang="en-US" sz="2800" spc="-1" strike="noStrike">
              <a:solidFill>
                <a:srgbClr val="006b8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Times New Roman"/>
              </a:rPr>
              <a:t>Специальные условия должны быть  созданы в детских дополнительных образовательных учреждениях.</a:t>
            </a:r>
            <a:endParaRPr b="0" lang="en-US" sz="29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71720" y="2214360"/>
            <a:ext cx="76435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использование специальных дополнительных образовательных общеразвивающих программ и методов обучения и воспита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специальных учебных пособий и дидактических материалов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специальных технических средств                           обучения коллективного и                              индивидуального пользова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ды творческой деятельности посредством которой происходит формирование лучших  качеств у детей с особыми образовательными потребностями       </a:t>
            </a:r>
            <a:br>
              <a:rPr sz="3900"/>
            </a:br>
            <a:endParaRPr b="0" lang="en-US" sz="28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85520" y="2428920"/>
            <a:ext cx="8358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Художественно-эстетической,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Физкультурно-спортивной,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Культурно - досуговой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999720" y="357120"/>
            <a:ext cx="792972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У нас задачи с вами очень сложные.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усть на дворе и 21-й век,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о в век больших технических возможностей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а первом месте все же человек.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В любых делах, проблемах, начинаниях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                             Роль первая ему отведена.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                             А, между тем, и помощь, и внимание, 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                            И добрая поддержка всем нуж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а том стоит вся сфера социальная,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Чтоб вовремя помочь и подсказать,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Кого-то поддержать материально,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Кому-то слово доброе сказать.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6" name="Picture 2" descr="http://ns2.mir-konkursov.ru/userfiles/29.png"/>
          <p:cNvPicPr/>
          <p:nvPr/>
        </p:nvPicPr>
        <p:blipFill>
          <a:blip r:embed="rId1"/>
          <a:stretch/>
        </p:blipFill>
        <p:spPr>
          <a:xfrm>
            <a:off x="6215040" y="4500720"/>
            <a:ext cx="26431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644480" y="2214720"/>
            <a:ext cx="74995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Georgia"/>
              </a:rPr>
              <a:t>СПАСИБО  ЗА  ВНИМАНИЕ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4071960" y="3429000"/>
            <a:ext cx="22147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99760" y="356760"/>
            <a:ext cx="743436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Цель: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Формирование системы общих взглядов и мотивации педагогического коллектива, обеспечивающих успешность образовательно-воспитательной деятельности и социализации детей в соответствии с требованиями  образовательных стандартов  учащихся с ограниченными возможностями здоровья и умственной отсталостью. Создание необходимых условий для адаптации образовательного пространства дома детского творчества нуждам и запросам каждого участника образовательного процесса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34960" y="3857760"/>
            <a:ext cx="74995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здать единую доступную образовательную среду для каждого ребен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ганизовать систему эффективного педагогическог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овождения процесса инклюзивного образова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сить квалификацию педагогических работников для обеспечения инклюзивного обуче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клюзивное (включенное) образование.</a:t>
            </a:r>
            <a:endParaRPr b="0" lang="en-US" sz="32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00080" y="1447560"/>
            <a:ext cx="7934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клюз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не значит просто собрать всех дет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кучу», чтобы каждый ученик чувствовал себ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ым, чтобы его способности и потреб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лись и были оценен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инклюзии в том, что система обучения 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я подстраивается под ребенка, а не ребено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систему. Инклюзивное образование – эт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ние особенностей развития ребенка и е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и к обучению, которое ведется способом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подходящим каждому ребенк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071360" y="213840"/>
            <a:ext cx="768636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е дети с особыми образовательным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требностями нуждаю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огащении опыт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го и учебного взаимодействия со свои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ьно развивающимися сверстникам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ждому ребенку необходимо подобра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ую и полезную для его развития модел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ого обучения, сохраняя нужную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ую педагогическую помощ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95672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7030a0"/>
                </a:solidFill>
                <a:latin typeface="Times New Roman"/>
              </a:rPr>
              <a:t>Основные категории детей с ОВЗ:                    </a:t>
            </a:r>
            <a:r>
              <a:rPr b="1" lang="ru-RU" sz="2200" spc="-1" strike="noStrike">
                <a:solidFill>
                  <a:srgbClr val="7030a0"/>
                </a:solidFill>
                <a:latin typeface="Times New Roman"/>
              </a:rPr>
              <a:t>(по классификации В.А.Лапшина Б.П.Пузанова)</a:t>
            </a:r>
            <a:endParaRPr b="0" lang="en-US" sz="22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00080" y="1447920"/>
            <a:ext cx="8143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Дети с нарушением слуха (глухие, слабослышащие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зднооглохшие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Дети с нарушением зрения (слепые, слабовидящие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Дети с нарушением речи (логопаты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Дети с нарушением опорно-двигательного аппарат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Дети с умственной отсталостью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Дети с задержкой психического развит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Дети с нарушением поведения и обще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Дети с комплексными нарушения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физическо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я, с так называемыми сложными дефекта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слепоглухонемые, глухие или слепые дети с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ственной отсталостью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928800" y="115560"/>
            <a:ext cx="82152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Специальные условиями реализации                  обучения и воспитания детей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с особыми образовательными потребностями.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специальные дополнительные общеобразовательные общеразвивающие программ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различные методы обучения и воспита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специальные учебные пособия и дидактически материал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 специальные технические средства обучения коллективного и индивидуального пользовани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 предоставление услуг ассистента (помощника), оказывающего учащемуся необходимую техническую помощь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 проведение групповых и индивидуальных коррекционных заняти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4934160" y="609300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34960" y="500040"/>
            <a:ext cx="7499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ществуют три модели интегрированного обучения:</a:t>
            </a:r>
            <a:br>
              <a:rPr sz="4000"/>
            </a:br>
            <a:endParaRPr b="0" lang="en-US" sz="32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000080" y="1285920"/>
            <a:ext cx="81439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ная и комбинированная интегра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в одной группе, осваивая образовательные программы, совместно обучаются дети с ОВЗ и нормально развивающиеся дет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тичная интегра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казана детям, которые                по тем или иным причинам не способны овладеть образовательным стандартом, поэтому они   вливаются в группу на часть дн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енная интегра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едполагает объединение всех воспитанников группы компенсирующего назначения с типично развивающимися дошкольниками не реже двух раз в месяц для проведения различных мероприятий воспитательного характер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1" lang="ru-RU" sz="3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блемы деятельности:</a:t>
            </a:r>
            <a:br>
              <a:rPr sz="3900"/>
            </a:b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000080" y="1357200"/>
            <a:ext cx="7934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общепринятых методик и методических пособий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ая литература содержит информацию об общеизвестных низкоэффективных методиках, существующих достаточно давно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ватка материальных ресурсов для приобретени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х и технических  материал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000080" y="357120"/>
            <a:ext cx="79344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образовательной деятельности 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и дополнительного образования важн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ко сочетать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уальный и дифференцир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нный подходы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пособствует тому, чтобы вс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ринимали участие  в жизни коллектив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ифференцированный подход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орма организ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го процесса, при котором максимально учиты-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ются возможности и запросы каждого ребёнка ил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ых групп учащих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ь дифференцированного обучени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комфортной среды для обучения 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личности с учётом индивидуальн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еских особенност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8:05:11Z</dcterms:created>
  <dc:creator>Брызгалов</dc:creator>
  <dc:description/>
  <dc:language>en-US</dc:language>
  <cp:lastModifiedBy>Анна</cp:lastModifiedBy>
  <dcterms:modified xsi:type="dcterms:W3CDTF">2019-08-26T13:19:15Z</dcterms:modified>
  <cp:revision>292</cp:revision>
  <dc:subject/>
  <dc:title>Система тактических установок        по реализации мероприятий                на базе стажировочных площадок по направлениям задачи 1   Федеральной целевой программы развития образования  на 2011- 2015годы</dc:title>
</cp:coreProperties>
</file>